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DEA20-9F2F-44CF-9735-9FD84107BA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FF919-D891-46B5-AA77-69855FE8775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2A5A3-CABF-4B5C-A6A8-E7D7A20401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E3B32-F8B4-4C15-A4A0-851518D708C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0462A-9059-4DA4-A42B-1862575CA0C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8EE3A-6BE1-4AB6-BF04-62503DEAD4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33A09-3276-45BA-8BAD-E2C5FF8E831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D561F-8884-463D-8874-8EDC10AA12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0D979-D495-4E06-A561-F1AA555C1F5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F38BC-32E4-441C-A0D1-BEE3406A9C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D320A-AA30-40B1-9011-76CB783DECC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AF23C-D40A-41A2-819E-135B21BAF8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33D8E-CA69-442D-BE32-FD5DF4A666A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45E63-3EB3-4B13-8E23-0891608A97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6126F-113A-4633-A1CD-167E980608D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31D7E-390C-41B5-A5B3-9A49F2572A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52C66-A85C-474B-AF9A-516EA8A75C6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CCB99-3B72-4F4C-823A-68330F99EB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E2E56-5A4E-44D4-BFF0-B3C6E08738A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BFD56-F2C2-4417-A040-0E0510B2D6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78B7-9BC4-4995-A74D-466D10B0CD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18F59-B8F3-4CC1-8DB3-EB730922627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CC1-720D-4B52-8C2B-BCFC7646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62D-71CF-4B3C-9C68-558AC57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50F-57B4-4775-A24D-42EBDD0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3CB-19FC-4D93-A51B-2E2C27BF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8C51-12D1-4A73-9A3F-1ECFDF79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CAED-AAA7-4CAA-9B7A-0DFD11B2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F0BE-2568-415E-BC4E-EB66D349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C32D-9952-4519-9BF4-E677E94C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5C77-99A7-43B0-A348-BB5FACE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3F3F-1C97-4D4C-BCB2-F68EF03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7ED6-E15C-4240-84F8-8938DAB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99C-AB4E-46AC-9F0A-9CA1B6BA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9C2A-AE8D-49E2-B622-49F27F3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8FEA-6D78-4BB9-8BD1-E501FA1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1C36-0DFC-4F44-BEC9-E196BC44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B705-8193-4923-893B-E335B356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5D5B-EBC2-43A0-881F-E4AD2AC7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D23B-B0E5-44D0-904E-4782FE6A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004B-5409-445D-AC33-0ADA2DC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EE56-C22B-4D51-9004-6B7A859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FFE0-7447-4994-B06C-F824120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5536-26BB-4A53-B2FD-BC459D64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C89-6E44-4278-A8BE-9900548A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2489-37B8-4FAD-886F-F52EBDC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6D15-62FD-4FE9-8589-FF905A9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E981-5C78-4A2C-B7FC-0178473D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CB19-75E9-42EB-93EC-521A133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2FF0-0D89-447C-A594-FE61BEC8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4189-531E-4B67-A1A2-D62741D5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9307-0E0E-4CFB-BAD4-6A81CC12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6478-42D3-4273-A51E-00BA4741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CEDB-5096-4B70-ACE2-46D868C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AFC1-2684-4978-9300-E8B15037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79A-889B-490B-81D8-73E4DD45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2A7A-B71E-44E0-A0E0-C5B5254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A758-F070-419F-BC83-66825CE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F028-DE2A-4E94-B11F-A0C5E612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D023-6CE8-40A3-911B-F5484D35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FC86-271A-4626-9285-9EE778C0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F483-F586-4F70-BF3C-55D8AF1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A7DA-73C1-475B-B995-CABECBE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8320-25D3-4334-90AE-DA70C906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ED53-4E19-4057-B03D-41C453B7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068EB-448C-43B3-A4BB-622BCA9D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56C-E51C-44ED-9605-8813A33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3227-F20B-4F24-A539-B5EEC32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679A-7C64-43F6-8AD2-F246B13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CF351-6C7C-4DB0-A09E-1BDD75DD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7AAF-D511-4256-BFD9-D4F89434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A6E5-AA56-4BE2-BB4D-EB3EB3D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1FDA-3EF2-48F6-988E-BB603EF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9941-9DEB-4768-896A-0B28E8E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6C0A-667F-42E8-A161-AA14437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0AAF-0607-493D-980A-4DE11085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61CC-81E9-47C5-B2AA-6AAE9A4C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96F-46CE-43F8-8907-8BE7CBEA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E7D22-F8F2-4951-82FA-71165F39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F3ED-1D42-47C7-BFD4-42167ABE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33E7-487D-44B6-BEE8-05F6A8DD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4C64-9EC8-4F43-9101-D2A0668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DC6EE-22E9-40BD-8195-0D0BF4C5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D8D84-127A-4C63-9131-3C328B3B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48E4-26DE-419E-815F-847BC23C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0607-F3DE-4CCB-B49B-286FF47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ADB7-081E-40D5-BFA9-5E33BEA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1EE6-6823-4170-B8C6-620ADED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AF2-B8CD-46EE-B706-3C6386D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7BA6-5650-4FAB-8CB5-4AB67D01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7B5C-CD88-4E66-AC8B-20B1AC9F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6322-776F-4C75-ABDC-596D8E6B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B0FC5-49EE-4918-9BED-B24A617E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BAFC-24C5-43AC-9B95-E4ADF246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6224B-0BCE-402C-B56B-0BBDF50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8124-E2C0-4F2E-BC47-04D87945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3DA26-A230-4F18-8D97-4941FAD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D796-8865-49D5-8CCB-808877B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A48F4-A79F-486C-ACD3-EC86D04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27A-9798-4015-998D-3328F26B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FEF5-B78A-4D4F-8E85-468FDE5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743D-3738-4A45-A82E-7D4A097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D697-053B-4013-A4F6-A961FE9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019D-35E2-4E07-A552-E28808F3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493D-2509-43ED-9E5F-9782BCD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EA2D9-E6DC-4798-B408-C9C6AE16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18EE-56B7-4347-9682-D42948B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65303-78B2-45FE-A86B-051BFAD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951BF-2A75-44A5-B437-D2EF5120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1C50C-9805-4387-B005-620A64C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4FA-9D7C-46FD-938B-2655896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10671-B892-4003-A64C-CB045EE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D2907-BAB3-42CC-9F57-5D43071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E6E9F-37E0-493F-95C1-3DA504F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F8CD-F9F2-4BD5-A10D-EC378FC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F90C1-B2E2-4921-B39B-2D1B7DE5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43214-B60B-4162-8703-E7C2D55E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F9C64-C71D-4B6F-990F-3D2DDE3A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20A46-9957-4CFD-B27D-A79877A37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23C78-3A26-4576-B592-45FEC6712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E9513-1897-45E8-93B0-07B0E0695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4BBA4-F2EE-411D-8CE4-87674602F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821E5-A86C-4FC1-8146-D874D90D6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A4491-FA96-4BF0-84A4-76B9CF200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04C55-736D-4CD7-BFC5-A152C5669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4FE74-A5A8-449D-A609-A513E6A37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75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IV Semana de Qualidade da Informação do Transporte Aér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440" y="2685960"/>
            <a:ext cx="81867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254061"/>
                </a:solidFill>
                <a:latin typeface="Calibri"/>
              </a:rPr>
              <a:t>Dados Estatís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Vitor – ANAC/SAS/GEAC/G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7f7f7f"/>
                </a:solidFill>
                <a:latin typeface="Calibri"/>
              </a:rPr>
              <a:t>São Paulo-SP, 09 de novembro de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leta de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presas Aé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urante a III Semana da Qu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 contribui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fício da G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61 contribui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leta de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ervidores da An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ecessidades observadas e anotadas ao longo de 2 a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ecessidades observadas durante as inspeções presen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gestões das empresas aéreas (além de fornecedores, também são usuários da informa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gumas contribuições específ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sumo (algumas informações quantitativ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129 Contribui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agem 2" descr=""/>
          <p:cNvPicPr/>
          <p:nvPr/>
        </p:nvPicPr>
        <p:blipFill>
          <a:blip r:embed="rId1"/>
          <a:stretch/>
        </p:blipFill>
        <p:spPr>
          <a:xfrm>
            <a:off x="1535040" y="2160720"/>
            <a:ext cx="63039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Anac: 61 contribui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Setor: 68 contribuiç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m 1" descr=""/>
          <p:cNvPicPr/>
          <p:nvPr/>
        </p:nvPicPr>
        <p:blipFill>
          <a:blip r:embed="rId1"/>
          <a:stretch/>
        </p:blipFill>
        <p:spPr>
          <a:xfrm>
            <a:off x="2122560" y="1380960"/>
            <a:ext cx="48988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ribuições do Se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agem 3" descr=""/>
          <p:cNvPicPr/>
          <p:nvPr/>
        </p:nvPicPr>
        <p:blipFill>
          <a:blip r:embed="rId1"/>
          <a:stretch/>
        </p:blipFill>
        <p:spPr>
          <a:xfrm>
            <a:off x="1077840" y="1623960"/>
            <a:ext cx="7174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ribuições não acatadas por falta de cond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Se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An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Imagem 1" descr=""/>
          <p:cNvPicPr/>
          <p:nvPr/>
        </p:nvPicPr>
        <p:blipFill>
          <a:blip r:embed="rId1"/>
          <a:stretch/>
        </p:blipFill>
        <p:spPr>
          <a:xfrm>
            <a:off x="2263680" y="2438280"/>
            <a:ext cx="5018040" cy="1668600"/>
          </a:xfrm>
          <a:prstGeom prst="rect">
            <a:avLst/>
          </a:prstGeom>
          <a:ln w="0">
            <a:noFill/>
          </a:ln>
        </p:spPr>
      </p:pic>
      <p:pic>
        <p:nvPicPr>
          <p:cNvPr id="391" name="Imagem 5" descr=""/>
          <p:cNvPicPr/>
          <p:nvPr/>
        </p:nvPicPr>
        <p:blipFill>
          <a:blip r:embed="rId2"/>
          <a:stretch/>
        </p:blipFill>
        <p:spPr>
          <a:xfrm>
            <a:off x="2263680" y="4673520"/>
            <a:ext cx="50180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lgumas contribuições específ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m 1" descr=""/>
          <p:cNvPicPr/>
          <p:nvPr/>
        </p:nvPicPr>
        <p:blipFill>
          <a:blip r:embed="rId1"/>
          <a:stretch/>
        </p:blipFill>
        <p:spPr>
          <a:xfrm>
            <a:off x="692280" y="1647720"/>
            <a:ext cx="79945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umário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ados Estatísticos – Empresas Brasilei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as Pa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ª parte: Remessa dos Dados Estatís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ª parte: Revisão dos Dados Estatísticos (Estudos Preliminares – Prestação de cont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guardar o aval da GEAC, da SAS e da Diretoria para iniciar o desenvolvi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tótipo do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inuta de nor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Testar o protó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ternam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Junto aos s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valiar as minutas de nor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ternam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Junto ao s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Obrigado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440" y="3009960"/>
            <a:ext cx="794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254061"/>
                </a:solidFill>
                <a:latin typeface="Calibri"/>
              </a:rPr>
              <a:t>Superintendência de Acompanhamento de Serviços Aére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254061"/>
                </a:solidFill>
                <a:latin typeface="Calibri"/>
              </a:rPr>
              <a:t>Gerência de Acompanhament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254061"/>
                </a:solidFill>
                <a:latin typeface="Calibri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254061"/>
                </a:solidFill>
                <a:latin typeface="Calibri"/>
              </a:rPr>
              <a:t>(61) 3314-4394 / geac@anac.gov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evisão dos Dados Estatísticos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(Estudos Preliminar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cesso normativo na An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s de Subsí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Usuários da Inform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presas Aé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rvidores da Anac que lidam com os d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álise dos Subsí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gumas contribuições específ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óximos pas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cesso normativo na An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cesso normativo na An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cesso normativo na An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sínte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º Nota Técnica (argumenta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reciação pela Superintendência Técn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reciação pela área jurí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cussão com os impac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º Nota Técnica (argumenta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reciação pela Superintendência Técnica e pela área jurí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reciação pela Dire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trela de 10 Pontos 1"/>
          <p:cNvSpPr/>
          <p:nvPr/>
        </p:nvSpPr>
        <p:spPr>
          <a:xfrm>
            <a:off x="4249800" y="1587600"/>
            <a:ext cx="4518000" cy="76176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Coleta de Subsídios. Antes do início f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Estrela de 10 Pontos 5"/>
          <p:cNvSpPr/>
          <p:nvPr/>
        </p:nvSpPr>
        <p:spPr>
          <a:xfrm>
            <a:off x="4332240" y="2998800"/>
            <a:ext cx="4518000" cy="762120"/>
          </a:xfrm>
          <a:prstGeom prst="pi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stamos 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cesso normativo na An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 que se tem até agora são pontos defendidos pela G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 a concordância da GE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Quem decide é a Diretoria ou Superintendênc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leta de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Subsí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leta de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s de Subsí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Usuários da Inform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presas Aé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rvidores da Anac que lidam com os d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leta de Subsíd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11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suários da In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GTES atende a diversas solicitações de d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mostra dos pedidos receb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1 para verificar o nível de serviço prestado pela An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95 para verificar se o Layout atende à socie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blemas de TI afetam em média cerca de 42% das solicitações de inform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informações dos dados estatísticos atendem em média cerca de 96% do que a sociedade pe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457200" y="64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rência Técnica de Análise Esta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7:31:18Z</dcterms:created>
  <dc:creator>Isabela Brumana</dc:creator>
  <dc:description/>
  <dc:language>en-US</dc:language>
  <cp:lastModifiedBy>anac</cp:lastModifiedBy>
  <dcterms:modified xsi:type="dcterms:W3CDTF">2016-11-09T10:46:12Z</dcterms:modified>
  <cp:revision>300</cp:revision>
  <dc:subject/>
  <dc:title>PowerPoint Presentation</dc:title>
</cp:coreProperties>
</file>